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7.png" ContentType="image/png"/>
  <Override PartName="/ppt/media/image10.wmf" ContentType="image/x-wmf"/>
  <Override PartName="/ppt/media/image6.wmf" ContentType="image/x-wmf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228-8EC4-47D5-A451-A7B1C8DF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00A-A7D1-4053-9F66-04F42431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DD3-4CE5-4BE1-A791-1752CB06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5B5-80C1-41F2-90A6-3C25AC26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C21B-249A-4F64-8856-3E7A79EE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1A76-FC49-4273-94FD-C26D2EFE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867B-775F-4319-887D-9991A757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47DC-5107-4E2F-A511-3403310D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E42E-7757-43BD-9FB0-439327FD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46D0-25B4-43A4-AE7A-CEFFCC9B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CFE2-D1FB-4456-9B85-B9C369C7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430-B7D8-4478-82A8-C56336BC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56DA-7A20-4374-88D8-5D31BFC7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EE0F-2F0A-4D4D-B991-9C14F8C2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A526-B111-4566-B553-3C8E485D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5A8C-869D-4376-A5BE-34169948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5471-EEFA-41C6-A678-0212AF47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CC94E-BC5F-4707-A2BD-05FD90C3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3CA4E-9CBC-46D3-A0ED-8743FB60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2996B-7A42-4C5E-8625-F0D8B4E9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7221D-DB3E-46C8-B91B-DC67429C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8D4E6-7EF7-4D06-BDCE-1A623BE8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B49-BCD2-4E6E-BE32-E303C576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7CFD-C635-4C7A-9C76-1769D750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CA941-5150-4C87-91B0-C7CAACFC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F8F83-724D-481C-BF4C-0192846A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76E3A-0667-4D33-8FF8-3973AD0F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B3D4B-C481-450E-B323-A18F16F9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E849-E192-43E4-98BE-758F6CF3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4AC9A-E117-4362-90A8-BF20AEE3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90696-5C53-4163-8CC4-3016E347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733C0-A5D4-4B3F-B063-FD9E12F6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AE68D-B514-46BD-B292-5791527B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2F0-3D3D-4AE8-BF30-D582FBBF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39B61-9506-46F7-8B95-5631C809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4337E-0F56-4D46-91F5-DD03BF4D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CBC09-1482-4E1E-AF10-29C58802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DA5FD-1E96-4799-9906-C96541BF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58A39-D80D-4683-BF72-5D63F50A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32854-CA1E-480E-BAF5-F443F7D5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E64EB-1F9E-436F-ADF6-4D5FF9C9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C2F15-6185-4F11-A657-9ACBE139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95405-251C-48EF-AEEB-3880BA8B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063-B5AF-4424-8355-1338481E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18D-F02C-4F5A-B668-3FB8F061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80D-FDA4-45F2-B439-76F4E348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0F5-88EF-49B7-A63E-753DA271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41C-B55A-453F-9C5E-916C8E14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94EF-2A24-4822-84C5-8DDBDDCDB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7856-20E8-430B-9E02-95833AD7D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9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7A80-A47A-4676-8CE7-4B912AD3C6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6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A1BB-026A-475D-B6BD-537849D0AD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1785600"/>
            <a:ext cx="77724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cc99ff"/>
                </a:solidFill>
                <a:latin typeface="Arial Black"/>
              </a:rPr>
              <a:t>Guinea</a:t>
            </a:r>
            <a:endParaRPr b="1" lang="en-US" sz="1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99f3ff"/>
                </a:solidFill>
                <a:latin typeface="Arial"/>
              </a:rPr>
              <a:t>By: Erin Picke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3ff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99f3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99f3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99f3ff"/>
                </a:solidFill>
                <a:latin typeface="Arial"/>
              </a:rPr>
              <a:t>Block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3ff"/>
                </a:solidFill>
                <a:latin typeface="Arial"/>
              </a:rPr>
              <a:t>                </a:t>
            </a:r>
            <a:r>
              <a:rPr b="1" lang="en-US" sz="3000" spc="-1" strike="noStrike">
                <a:solidFill>
                  <a:srgbClr val="99f3ff"/>
                </a:solidFill>
                <a:latin typeface="Arial"/>
              </a:rPr>
              <a:t>Mr. Huf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 rot="20497800">
            <a:off x="402840" y="4347720"/>
            <a:ext cx="3516480" cy="19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69520" y="1455480"/>
            <a:ext cx="80564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Arial"/>
              </a:rPr>
              <a:t>Thank you for watching my slide show on Guinea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0066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236aa"/>
                </a:solidFill>
                <a:latin typeface="Arial Black"/>
              </a:rPr>
              <a:t>Location</a:t>
            </a: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78960" cy="47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47fd"/>
                </a:solidFill>
                <a:latin typeface="Arial"/>
              </a:rPr>
              <a:t>The countries bordering Guinea include Côte d'Ivoire, Guinea-Bissau, Liberia, Mali, Senegal, and Sierra Leoneb. Guinea also borders the North Atlantic Ocean on the e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47fd"/>
                </a:solidFill>
                <a:latin typeface="Arial"/>
              </a:rPr>
              <a:t>Guinea’s water sources include the Niger river, Senegal river, and Gambia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47fd"/>
                </a:solidFill>
                <a:latin typeface="Arial"/>
              </a:rPr>
              <a:t>Conakry is the capital of Guinea, and it’s largest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47fd"/>
                </a:solidFill>
                <a:latin typeface="Arial"/>
              </a:rPr>
              <a:t>It’s land area is 245,857 sq k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47fd"/>
                </a:solidFill>
                <a:latin typeface="Arial"/>
              </a:rPr>
              <a:t>It’s current population is estimated                  at 10,211,43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886440" y="4726080"/>
            <a:ext cx="1984680" cy="17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d6edee"/>
                </a:solidFill>
                <a:latin typeface="Arial Black"/>
              </a:rPr>
              <a:t>Location/Map of Guinea</a:t>
            </a:r>
            <a:endParaRPr b="1" lang="en-US" sz="47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mguinea" descr=""/>
          <p:cNvPicPr/>
          <p:nvPr/>
        </p:nvPicPr>
        <p:blipFill>
          <a:blip r:embed="rId2"/>
          <a:stretch/>
        </p:blipFill>
        <p:spPr>
          <a:xfrm>
            <a:off x="900000" y="1905120"/>
            <a:ext cx="3722760" cy="4190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where in Africa is Guinea"/>
          <p:cNvPicPr/>
          <p:nvPr/>
        </p:nvPicPr>
        <p:blipFill>
          <a:blip r:embed="rId3"/>
          <a:stretch/>
        </p:blipFill>
        <p:spPr>
          <a:xfrm>
            <a:off x="4721400" y="1898640"/>
            <a:ext cx="3752640" cy="41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0f4"/>
            </a:gs>
            <a:gs pos="100000">
              <a:srgbClr val="8eaa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0200" y="2840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f0f4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8eaafa"/>
                </a:solidFill>
                <a:latin typeface="Arial Black"/>
              </a:rPr>
              <a:t>Major Historical Event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0740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28c0"/>
                </a:solidFill>
                <a:latin typeface="Arial"/>
              </a:rPr>
              <a:t>1891</a:t>
            </a:r>
            <a:r>
              <a:rPr b="0" lang="en-US" sz="2400" spc="-1" strike="noStrike">
                <a:solidFill>
                  <a:srgbClr val="7028c0"/>
                </a:solidFill>
                <a:latin typeface="Arial"/>
              </a:rPr>
              <a:t> - France declares Guinea to be a colony, separate from Seneg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28c0"/>
                </a:solidFill>
                <a:latin typeface="Arial"/>
              </a:rPr>
              <a:t>1958</a:t>
            </a:r>
            <a:r>
              <a:rPr b="0" lang="en-US" sz="2400" spc="-1" strike="noStrike">
                <a:solidFill>
                  <a:srgbClr val="7028c0"/>
                </a:solidFill>
                <a:latin typeface="Arial"/>
              </a:rPr>
              <a:t> October - Guinea becomes independent, with Ahmed Sekou Toure as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28c0"/>
                </a:solidFill>
                <a:latin typeface="Arial"/>
              </a:rPr>
              <a:t>1996</a:t>
            </a:r>
            <a:r>
              <a:rPr b="0" lang="en-US" sz="2400" spc="-1" strike="noStrike">
                <a:solidFill>
                  <a:srgbClr val="7028c0"/>
                </a:solidFill>
                <a:latin typeface="Arial"/>
              </a:rPr>
              <a:t> - 25% of Guinea’s armed forces rebel over low pay, presidential palace is set on fire, and Approximately 30 people were 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28c0"/>
                </a:solidFill>
                <a:latin typeface="Arial"/>
              </a:rPr>
              <a:t>2005</a:t>
            </a:r>
            <a:r>
              <a:rPr b="0" lang="en-US" sz="2400" spc="-1" strike="noStrike">
                <a:solidFill>
                  <a:srgbClr val="7028c0"/>
                </a:solidFill>
                <a:latin typeface="Arial"/>
              </a:rPr>
              <a:t> January - President Conte survives what security officials say is an assassination attempt, shots were fired as his motorcade passed through th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18400" y="255600"/>
            <a:ext cx="171432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36aa"/>
            </a:gs>
            <a:gs pos="50000">
              <a:srgbClr val="4495a0"/>
            </a:gs>
            <a:gs pos="100000">
              <a:srgbClr val="6236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bb1c1"/>
                </a:solidFill>
                <a:latin typeface="Arial Black"/>
              </a:rPr>
              <a:t>  </a:t>
            </a:r>
            <a:r>
              <a:rPr b="1" lang="en-US" sz="4200" spc="-1" strike="noStrike">
                <a:solidFill>
                  <a:srgbClr val="1bb1c1"/>
                </a:solidFill>
                <a:latin typeface="Arial Black"/>
              </a:rPr>
              <a:t>Major Individuals in Guinea</a:t>
            </a:r>
            <a:endParaRPr b="1" lang="en-US" sz="4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Ahmed Sekou Toure –                                                         President when Guinea                                                            becomes indepen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Louis Lansana Beavogui-                                                                   Had the shortest term                                                                              for Presidency,                                                                               March 26, 1984 - April 3,                                    1984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24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Lansana Conte – Current                                                           President of Guinea,                                              since 1984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4c7a"/>
                </a:solidFill>
                <a:latin typeface="Arial"/>
              </a:rPr>
              <a:t>Ahmed Sekou Toure</a:t>
            </a:r>
            <a:r>
              <a:rPr b="0" lang="en-US" sz="9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624640" y="2023920"/>
            <a:ext cx="3016080" cy="40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50000">
              <a:srgbClr val="8eaafa"/>
            </a:gs>
            <a:gs pos="100000">
              <a:srgbClr val="99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ccecff"/>
                </a:solidFill>
                <a:latin typeface="Arial Black"/>
              </a:rPr>
              <a:t>Current Political Environment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9071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47fd"/>
                </a:solidFill>
                <a:latin typeface="Arial"/>
              </a:rPr>
              <a:t>Guinea’s Government is</a:t>
            </a:r>
            <a:r>
              <a:rPr b="1" lang="en-US" sz="2300" spc="-1" strike="noStrike">
                <a:solidFill>
                  <a:srgbClr val="9947fd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9947fd"/>
                </a:solidFill>
                <a:latin typeface="Arial"/>
              </a:rPr>
              <a:t>Republ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47fd"/>
                </a:solidFill>
                <a:latin typeface="Arial"/>
              </a:rPr>
              <a:t>The Political System is a Democrac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47fd"/>
                </a:solidFill>
                <a:latin typeface="Arial"/>
              </a:rPr>
              <a:t>The President is Lansana Conté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47fd"/>
                </a:solidFill>
                <a:latin typeface="Arial"/>
              </a:rPr>
              <a:t>The Prime Minister is Lansana Kouyaté who was appointed by the Presid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47fd"/>
                </a:solidFill>
                <a:latin typeface="Arial"/>
              </a:rPr>
              <a:t>A major political movement in Guinea is the change from a military government to a democratic government, but is yet complet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47fd"/>
                </a:solidFill>
                <a:latin typeface="Arial"/>
              </a:rPr>
              <a:t>The last presidential election was held on June 19, 20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811840" y="1903320"/>
            <a:ext cx="3132000" cy="44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236aa"/>
                </a:solidFill>
                <a:latin typeface="Arial Black"/>
              </a:rPr>
              <a:t>Major Imports and Export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12880" y="1904760"/>
            <a:ext cx="4163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Im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36aa"/>
                </a:solidFill>
                <a:latin typeface="Arial"/>
              </a:rPr>
              <a:t>Petroleum products, machinery, equipment  and construction materials, other   consumer goods,   service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36aa"/>
                </a:solidFill>
                <a:latin typeface="Arial"/>
              </a:rPr>
              <a:t>Guinea’s import partners include France, China, Belgium, Italy, the Netherlands, the UK, Cot d'Ivoire, and the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51360" y="1930320"/>
            <a:ext cx="3981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Ex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36aa"/>
                </a:solidFill>
                <a:latin typeface="Arial"/>
              </a:rPr>
              <a:t>Bauxite, alumina, gold, diamonds, coffee, fish, and agricultur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36aa"/>
                </a:solidFill>
                <a:latin typeface="Arial"/>
              </a:rPr>
              <a:t>Guinea’s export partners include South Korea, Russia, Spain, Ireland, the United States, Ukraine, and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57920" y="5275440"/>
            <a:ext cx="1735200" cy="14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Arial Black"/>
              </a:rPr>
              <a:t> </a:t>
            </a:r>
            <a:r>
              <a:rPr b="1" lang="en-US" sz="6000" spc="-1" strike="noStrike">
                <a:solidFill>
                  <a:srgbClr val="ccecff"/>
                </a:solidFill>
                <a:latin typeface="Arial Black"/>
              </a:rPr>
              <a:t>Cultural </a:t>
            </a:r>
            <a:r>
              <a:rPr b="1" lang="en-US" sz="5400" spc="-1" strike="noStrike">
                <a:solidFill>
                  <a:srgbClr val="ccecff"/>
                </a:solidFill>
                <a:latin typeface="Arial Black"/>
              </a:rPr>
              <a:t>Activities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50680" y="1884240"/>
            <a:ext cx="416700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66"/>
                </a:solidFill>
                <a:latin typeface="Arial"/>
              </a:rPr>
              <a:t>The official language in Guinea is French. Other languages spoken include Fula, Maninka, Susu, Arabic, Kissi, and Pula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66"/>
                </a:solidFill>
                <a:latin typeface="Arial"/>
              </a:rPr>
              <a:t>85% of Guinea's population is Muslim, and other beliefs include Indigenous and Christian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66"/>
                </a:solidFill>
                <a:latin typeface="Arial"/>
              </a:rPr>
              <a:t>Most people in Guinea are Roman Catholic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66"/>
                </a:solidFill>
                <a:latin typeface="Arial"/>
              </a:rPr>
              <a:t>Guinea has four main ethnic groups; Peuhl, Malinke, Soussous, and several smaller group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57560" y="1905120"/>
            <a:ext cx="38876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The four-day pre-Lent celebrations and parades are a chance for music, dance and culture of the country's different ethnic group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589720" y="2019240"/>
            <a:ext cx="306216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a5e"/>
                </a:solidFill>
                <a:latin typeface="Arial Black"/>
              </a:rPr>
              <a:t>The Future of Guinea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2920" y="1944720"/>
            <a:ext cx="75848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52a93"/>
                </a:solidFill>
                <a:latin typeface="Arial"/>
              </a:rPr>
              <a:t>What I Believe the future holds for Guine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aafa"/>
                </a:solidFill>
                <a:latin typeface="Arial"/>
              </a:rPr>
              <a:t>Guinea will change to a democratic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5bf5"/>
                </a:solidFill>
                <a:latin typeface="Arial"/>
              </a:rPr>
              <a:t>It will become a huge countr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5bf5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55bf5"/>
                </a:solidFill>
                <a:latin typeface="Arial"/>
              </a:rPr>
              <a:t>export, because they are on the            coast, and have many useful                 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2fa1"/>
                </a:solidFill>
                <a:latin typeface="Arial"/>
              </a:rPr>
              <a:t>It’s population will increase, because many people from other countries in Africa will want to move there due to good agriculture, useful exports, and needed im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826320" y="2440080"/>
            <a:ext cx="1828800" cy="221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1:36:41Z</dcterms:created>
  <dc:creator>notebook</dc:creator>
  <dc:description/>
  <dc:language>en-US</dc:language>
  <cp:lastModifiedBy>erinpickens</cp:lastModifiedBy>
  <dcterms:modified xsi:type="dcterms:W3CDTF">2008-11-07T16:40:09Z</dcterms:modified>
  <cp:revision>20</cp:revision>
  <dc:subject/>
  <dc:title>Guinea</dc:title>
</cp:coreProperties>
</file>